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gif" ContentType="image/gif"/>
  <Override PartName="/ppt/media/image16.png" ContentType="image/png"/>
  <Override PartName="/ppt/media/image15.png" ContentType="image/png"/>
  <Override PartName="/ppt/media/image5.jpeg" ContentType="image/jpeg"/>
  <Override PartName="/ppt/media/image10.png" ContentType="image/png"/>
  <Override PartName="/ppt/media/image9.wmf" ContentType="image/x-wmf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DC4-5FFF-43B6-B719-3DCB4F71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9DB-4781-4BCD-9CBD-D0C0B0A8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26168-EC7F-40A3-A15A-DF8F57C6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73016-BCB4-4367-B1D3-E1D6C81D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23977-BBCC-420F-A441-10B548B2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79355-B63F-4D96-9945-CBA4D03A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1FF89-F614-48DD-BEFF-2F36A1F8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4A854-E4E9-4F1E-AE99-3B49A63D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16FD5-3AB1-4D39-B5E8-9B61AAB1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275BC-8FEE-4DA0-B292-0A5F0BF9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C8C77-EA63-4A9D-8764-07753664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56D-BB01-4D76-BBF2-53387F4F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506-2F77-4C59-943F-8D58FFD9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1649-86B2-4812-ADC2-D64D3228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4E59-0850-4ADF-BF7A-8023E972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8C7B-F83B-4094-B75A-F72E3D85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0E27-1DF3-4916-AB6F-F8CEC226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88F0-F789-4552-B7B1-141B6227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8CB9-C48B-4C53-976F-935356FD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77A7-F306-4203-AF55-38EAD1D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E94-DF01-4B4F-BEB9-D05242E7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A80D-1385-4A28-8F39-A9D9029B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4FF1-1113-49C1-A3BE-43CADDD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7F07-D6FF-4FA8-8FB7-1E9FEFEE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21A3-88F9-45CD-828D-D5433AD2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5F4C-AF36-4FAD-BD33-C79640F5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82E1D-7B87-4971-8E95-D74F4481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2F1D-A8D0-4F2F-A6AC-8B005ECD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C47F-B0BD-44A7-BFEE-3C1122B0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5521-09D2-438F-A259-D31B760C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53D8-38F5-4A65-A5E8-815073C8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97C-B94D-4323-81D1-F6A9B722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3EEF9-BF5C-46E7-A62C-4ABDC177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B7D9B-A18F-47F5-AB16-A579454E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AED1-D0EF-42A0-9211-A0DC0732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DD29-22F9-42FC-9AC1-296EA8C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9B75-A3B2-4F86-9A03-761BD139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1763-1486-4CF7-B4EC-3BD1328F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62E1-76DC-4C3D-9DE6-2D875680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E4F0C-CC37-4E4D-AD71-A71F1133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36650-4E52-41AD-A892-F6C9BAAB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52125-5BBF-4E42-81BA-75EE4EC3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5F9-4034-4340-8CA7-0DBC6002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811B-D961-4B31-8EAA-C828A447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9EF10-B365-49E8-8AB5-E9D007CF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5990-56E8-4B34-875B-2017FC16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895F8-2189-4C2C-ADE1-77FB6DE7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B7DF-E797-4FED-B06F-D2732BC7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82C79-8CEB-486F-B374-FCB94AE1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056B3-D9B0-4933-9844-849CAF30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002D0-825C-4678-AEB7-71C16A6C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8D4E7-B2F9-4673-8303-10D11A8D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5B67-1105-4E40-A2FD-D80F5010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AF8-F763-4BF5-9449-DD1C164F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18E69-4276-4916-A37B-33133793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FB206-E6A6-4292-B819-D8B78E5B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D36AD-4DA9-4000-A35F-2591DB9F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AC2C6-21B9-4341-A02A-AE21B440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20345-BE85-4737-9CA1-E145A930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9E45E-3528-488E-870F-D486C96D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11A36-1AD2-4336-A9E3-57907323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8B21-E97B-4B94-9218-12B7186B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4A394-195A-40EE-A954-03F97E04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D003A-C1DD-4627-AB8A-99647EB5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F51-E3C1-4DBD-94A5-F6BF7B3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FF802-7204-4CFC-BBA6-16D850FA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88572-BC24-4157-BB5A-12D5FF89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6D7FE-46A7-458B-A7C1-212A2684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AB843-D162-411C-B1F5-094D99EF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182C2-FC7E-4A7F-9EAF-13E40DA8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1D7C8-97FB-4FC4-AB0A-9AF1E406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CD76-20C9-4B20-99D0-6C2E24C6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FB80-8C4C-422F-8670-2602D103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103AB-0043-4EFF-A5A4-0E366460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11D9-BC0C-4CE7-B107-4B92DB4F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3A2-8254-40B9-8EAE-97B0EF21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A22A5-5AD4-46E0-BF04-45272664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4F5AC-2DD7-4C02-A347-EA8F7F36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3DB47-D3DE-48B9-AB40-CE858401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EA21C-53DA-404B-9706-555B3EDE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59B48-89A7-4697-A1F7-10A1475D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126D1-C0C7-4A53-8BF3-AEFFCE41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3DE5C-1395-4EE4-8759-6AB9293E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44D53-FBC4-45F0-9126-D3ADEB8E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00957-21EE-4E59-A1BA-86FE26D0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72C20-28BC-40A3-B325-8C75DBE6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29E-4B00-4F5A-8B99-314707B8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2337E-10B9-40E5-8731-026587AA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EBF60-6C8F-4BDC-B46C-0A4E2CAE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BA972-D6EB-4C58-AFF3-9ABA81F7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BA505-7564-476E-9A16-FD7DFEAD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CB998-876D-458B-B503-052DA422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510AE-4454-40D2-9015-A0A3EADF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CA707-C0AD-4DC1-8BA4-1DCF2BF9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BD99C-992D-40DB-92DA-7A81B055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7DF5B-3904-459E-90E8-BB0F8636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5E009-B3C2-4DB7-8BCE-D8A96A9F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D2A-2D70-4137-82D0-55826460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C2396-0927-4235-A424-3D4E2512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D840A-755F-49C8-B5A5-08F3D57F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38A99-2880-42AB-9DBD-D28A2BC7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27203-DF60-44C2-BA86-D6CF811B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3A536-584E-401D-8AEC-152AD456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4087F-D692-455A-9306-75AF2FE3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23FEE-E5F8-4804-B48B-3280142D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32020-7BC0-4E8A-A79A-4BFEB3CD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05957-E024-473F-AC44-3F003BEB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46AC6-F448-4A7E-BF92-6BF5B354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C1AC-57D3-4C63-A5EA-4FEAEFB7E9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直接连接符 12" descr=""/>
          <p:cNvPicPr/>
          <p:nvPr/>
        </p:nvPicPr>
        <p:blipFill>
          <a:blip r:embed="rId3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EF47-D232-4D07-AEC9-ECE5FCDD37B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87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88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9C2A-A0BF-4545-8F44-59836696F2F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直接连接符 12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C693-9C63-488B-875C-279AA444F9A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直接连接符 12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8550-56D1-4E36-8296-D8A0F66404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483B-E9B3-49F1-88B1-ADAE0B0C000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直接连接符 12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D38D-D228-44EF-98DF-CB0AF3F4E53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0D17-5EBD-4CE5-BB0F-060390FBC9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45AC-6F82-4F7C-958C-2401765C2B4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baike.baidu.com/view/118.htm" TargetMode="External"/><Relationship Id="rId3" Type="http://schemas.openxmlformats.org/officeDocument/2006/relationships/hyperlink" Target="http://baike.baidu.com/view/16730.htm" TargetMode="External"/><Relationship Id="rId4" Type="http://schemas.openxmlformats.org/officeDocument/2006/relationships/hyperlink" Target="http://baike.baidu.com/view/33856.htm" TargetMode="External"/><Relationship Id="rId5" Type="http://schemas.openxmlformats.org/officeDocument/2006/relationships/hyperlink" Target="http://baike.baidu.com/view/3657.htm" TargetMode="External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"/>
          <p:cNvGrpSpPr/>
          <p:nvPr/>
        </p:nvGrpSpPr>
        <p:grpSpPr>
          <a:xfrm>
            <a:off x="458640" y="1557360"/>
            <a:ext cx="7459560" cy="4726800"/>
            <a:chOff x="458640" y="1557360"/>
            <a:chExt cx="7459560" cy="4726800"/>
          </a:xfrm>
        </p:grpSpPr>
        <p:pic>
          <p:nvPicPr>
            <p:cNvPr id="380" name="Picture 5" descr="图片11"/>
            <p:cNvPicPr/>
            <p:nvPr/>
          </p:nvPicPr>
          <p:blipFill>
            <a:blip r:embed="rId1"/>
            <a:stretch/>
          </p:blipFill>
          <p:spPr>
            <a:xfrm>
              <a:off x="2370240" y="1557360"/>
              <a:ext cx="4596840" cy="47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6"/>
            <p:cNvSpPr/>
            <p:nvPr/>
          </p:nvSpPr>
          <p:spPr>
            <a:xfrm>
              <a:off x="458640" y="3120120"/>
              <a:ext cx="7459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9900ff"/>
                  </a:solidFill>
                  <a:latin typeface="华康娃娃体W5(P)"/>
                  <a:ea typeface="华康娃娃体W5(P)"/>
                </a:rPr>
                <a:t>利 率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12952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380880" y="1752480"/>
            <a:ext cx="8763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明存入银行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00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元，存期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，年利率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68%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求税后利息。（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时利息税率为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5%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列式为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00×4.68%×2×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-5%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    （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1258920" y="458136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WordArt 6"/>
          <p:cNvSpPr txBox="1"/>
          <p:nvPr/>
        </p:nvSpPr>
        <p:spPr>
          <a:xfrm>
            <a:off x="2843280" y="4428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判断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1600200"/>
            <a:ext cx="1016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小红把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4000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元存入银行，存期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年， 年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利率为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5.40%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，求税后利息（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当时利息税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%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列式为 ：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4000×5.40%×3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－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4000×5.40%×3×5%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</a:t>
            </a:r>
            <a:r>
              <a:rPr b="0" lang="zh-CN" sz="4000" spc="-1" strike="noStrike">
                <a:solidFill>
                  <a:srgbClr val="4e3b30"/>
                </a:solidFill>
                <a:latin typeface="Franklin Gothic Book"/>
              </a:rPr>
              <a:t>（        ）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7110360" y="4869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WordArt 5"/>
          <p:cNvSpPr txBox="1"/>
          <p:nvPr/>
        </p:nvSpPr>
        <p:spPr>
          <a:xfrm>
            <a:off x="2843280" y="4428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判断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3"/>
          <p:cNvSpPr/>
          <p:nvPr/>
        </p:nvSpPr>
        <p:spPr>
          <a:xfrm>
            <a:off x="12952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1125360"/>
            <a:ext cx="87631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华把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8000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元存入银行，存期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，年利率为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25%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求税后利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当时利息税率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列式为 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8000×2.52% ×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-5%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（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1763640" y="414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6"/>
          <p:cNvSpPr txBox="1"/>
          <p:nvPr/>
        </p:nvSpPr>
        <p:spPr>
          <a:xfrm>
            <a:off x="2843280" y="4428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判断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8028000" y="350028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541440" y="1197000"/>
            <a:ext cx="81849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李叔叔按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年期整存整取年利率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5.40%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存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银行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6000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元，存了</a:t>
            </a:r>
            <a:r>
              <a:rPr b="0" lang="en-US" sz="3600" spc="-1" strike="noStrike">
                <a:solidFill>
                  <a:srgbClr val="0e0e14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年，到期后他能取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e0e14"/>
                </a:solidFill>
                <a:latin typeface="Times New Roman"/>
                <a:ea typeface="宋体"/>
              </a:rPr>
              <a:t>多少利息？</a:t>
            </a:r>
            <a:r>
              <a:rPr b="0" lang="zh-CN" sz="2800" spc="-1" strike="noStrike">
                <a:solidFill>
                  <a:srgbClr val="0e0e14"/>
                </a:solidFill>
                <a:latin typeface="Times New Roman"/>
                <a:ea typeface="宋体"/>
              </a:rPr>
              <a:t>（当时利息税率为</a:t>
            </a:r>
            <a:r>
              <a:rPr b="0" lang="en-US" sz="2800" spc="-1" strike="noStrike">
                <a:solidFill>
                  <a:srgbClr val="0e0e14"/>
                </a:solidFill>
                <a:latin typeface="Times New Roman"/>
              </a:rPr>
              <a:t>5%</a:t>
            </a:r>
            <a:r>
              <a:rPr b="0" lang="zh-CN" sz="2800" spc="-1" strike="noStrike">
                <a:solidFill>
                  <a:srgbClr val="0e0e14"/>
                </a:solidFill>
                <a:latin typeface="Times New Roman"/>
                <a:ea typeface="宋体"/>
              </a:rPr>
              <a:t>）</a:t>
            </a:r>
            <a:r>
              <a:rPr b="0" lang="en-US" sz="3200" spc="-1" strike="noStrike">
                <a:solidFill>
                  <a:srgbClr val="0e0e14"/>
                </a:solidFill>
                <a:latin typeface="Times New Roman"/>
              </a:rPr>
              <a:t>(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e14"/>
                </a:solidFill>
                <a:latin typeface="宋体"/>
              </a:rPr>
              <a:t>A.6000×5.4%×5</a:t>
            </a: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     B.6000×5.4%×6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C.6000×5.4%×5× (1</a:t>
            </a:r>
            <a:r>
              <a:rPr b="0" lang="zh-CN" sz="4000" spc="-1" strike="noStrike">
                <a:solidFill>
                  <a:srgbClr val="0e0e14"/>
                </a:solidFill>
                <a:latin typeface="Times New Roman"/>
                <a:ea typeface="宋体"/>
              </a:rPr>
              <a:t>－</a:t>
            </a: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5%</a:t>
            </a:r>
            <a:r>
              <a:rPr b="0" lang="zh-CN" sz="4000" spc="-1" strike="noStrike">
                <a:solidFill>
                  <a:srgbClr val="0e0e14"/>
                </a:solidFill>
                <a:latin typeface="Times New Roman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D.6000×5.4%×6× (1</a:t>
            </a:r>
            <a:r>
              <a:rPr b="0" lang="zh-CN" sz="4000" spc="-1" strike="noStrike">
                <a:solidFill>
                  <a:srgbClr val="0e0e14"/>
                </a:solidFill>
                <a:latin typeface="Times New Roman"/>
                <a:ea typeface="宋体"/>
              </a:rPr>
              <a:t>－</a:t>
            </a:r>
            <a:r>
              <a:rPr b="0" lang="en-US" sz="4000" spc="-1" strike="noStrike">
                <a:solidFill>
                  <a:srgbClr val="0e0e14"/>
                </a:solidFill>
                <a:latin typeface="Times New Roman"/>
              </a:rPr>
              <a:t>5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6588000" y="2133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3132000" y="44280"/>
            <a:ext cx="20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选择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3" name="AutoShape 6"/>
          <p:cNvSpPr/>
          <p:nvPr/>
        </p:nvSpPr>
        <p:spPr>
          <a:xfrm flipV="1">
            <a:off x="7488360" y="1989000"/>
            <a:ext cx="1655640" cy="1152720"/>
          </a:xfrm>
          <a:prstGeom prst="wedgeEllipseCallout">
            <a:avLst>
              <a:gd name="adj1" fmla="val -42333"/>
              <a:gd name="adj2" fmla="val -89259"/>
            </a:avLst>
          </a:prstGeom>
          <a:solidFill>
            <a:srgbClr val="ff0000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 flipV="1">
            <a:off x="6516720" y="4004640"/>
            <a:ext cx="2881440" cy="865080"/>
          </a:xfrm>
          <a:prstGeom prst="wedgeEllipseCallout">
            <a:avLst>
              <a:gd name="adj1" fmla="val -60578"/>
              <a:gd name="adj2" fmla="val -753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税后利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j0078711"/>
          <p:cNvPicPr/>
          <p:nvPr/>
        </p:nvPicPr>
        <p:blipFill>
          <a:blip r:embed="rId1"/>
          <a:stretch/>
        </p:blipFill>
        <p:spPr>
          <a:xfrm>
            <a:off x="8015400" y="4343400"/>
            <a:ext cx="900000" cy="21812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"/>
          <p:cNvSpPr/>
          <p:nvPr/>
        </p:nvSpPr>
        <p:spPr>
          <a:xfrm>
            <a:off x="12952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80880" y="1197000"/>
            <a:ext cx="843912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李强于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买国债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00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元，存期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，年利率为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89%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求到期利息。 </a:t>
            </a:r>
            <a:r>
              <a:rPr b="0" lang="zh-CN" sz="2400" spc="-1" strike="noStrike">
                <a:solidFill>
                  <a:srgbClr val="0e0e14"/>
                </a:solidFill>
                <a:latin typeface="Arial"/>
                <a:ea typeface="宋体"/>
              </a:rPr>
              <a:t>（当时利息税率为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5%</a:t>
            </a:r>
            <a:r>
              <a:rPr b="0" lang="zh-CN" sz="2400" spc="-1" strike="noStrike">
                <a:solidFill>
                  <a:srgbClr val="0e0e14"/>
                </a:solidFill>
                <a:latin typeface="Arial"/>
                <a:ea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列式为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A.1800×4.89% ×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B.1800×4.89% × 3 ×(1-5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5796000" y="21337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7"/>
          <p:cNvSpPr txBox="1"/>
          <p:nvPr/>
        </p:nvSpPr>
        <p:spPr>
          <a:xfrm>
            <a:off x="3132000" y="44280"/>
            <a:ext cx="20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选择题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0" name="AutoShape 8"/>
          <p:cNvSpPr/>
          <p:nvPr/>
        </p:nvSpPr>
        <p:spPr>
          <a:xfrm flipV="1">
            <a:off x="6516720" y="2996640"/>
            <a:ext cx="2881440" cy="865080"/>
          </a:xfrm>
          <a:prstGeom prst="wedgeEllipseCallout">
            <a:avLst>
              <a:gd name="adj1" fmla="val -45375"/>
              <a:gd name="adj2" fmla="val -101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税后利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WordArt 4"/>
          <p:cNvSpPr txBox="1"/>
          <p:nvPr/>
        </p:nvSpPr>
        <p:spPr>
          <a:xfrm>
            <a:off x="2916360" y="189000"/>
            <a:ext cx="2485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2" name="Picture 5" descr="妈妈"/>
          <p:cNvPicPr/>
          <p:nvPr/>
        </p:nvPicPr>
        <p:blipFill>
          <a:blip r:embed="rId1"/>
          <a:stretch/>
        </p:blipFill>
        <p:spPr>
          <a:xfrm>
            <a:off x="5535720" y="3186000"/>
            <a:ext cx="1908000" cy="2671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妈妈1"/>
          <p:cNvPicPr/>
          <p:nvPr/>
        </p:nvPicPr>
        <p:blipFill>
          <a:blip r:embed="rId2"/>
          <a:stretch/>
        </p:blipFill>
        <p:spPr>
          <a:xfrm>
            <a:off x="4370400" y="3067200"/>
            <a:ext cx="1974960" cy="279072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7"/>
          <p:cNvSpPr/>
          <p:nvPr/>
        </p:nvSpPr>
        <p:spPr>
          <a:xfrm>
            <a:off x="2233080" y="1033560"/>
            <a:ext cx="55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国人民银行公布的存款利率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8"/>
          <p:cNvGrpSpPr/>
          <p:nvPr/>
        </p:nvGrpSpPr>
        <p:grpSpPr>
          <a:xfrm>
            <a:off x="179280" y="906480"/>
            <a:ext cx="946080" cy="764280"/>
            <a:chOff x="179280" y="906480"/>
            <a:chExt cx="946080" cy="764280"/>
          </a:xfrm>
        </p:grpSpPr>
        <p:pic>
          <p:nvPicPr>
            <p:cNvPr id="456" name="Picture 9" descr="cw4"/>
            <p:cNvPicPr/>
            <p:nvPr/>
          </p:nvPicPr>
          <p:blipFill>
            <a:blip r:embed="rId3"/>
            <a:stretch/>
          </p:blipFill>
          <p:spPr>
            <a:xfrm>
              <a:off x="179280" y="946080"/>
              <a:ext cx="94608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0"/>
            <p:cNvSpPr/>
            <p:nvPr/>
          </p:nvSpPr>
          <p:spPr>
            <a:xfrm>
              <a:off x="461520" y="9064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8" name=""/>
          <p:cNvGraphicFramePr/>
          <p:nvPr/>
        </p:nvGraphicFramePr>
        <p:xfrm>
          <a:off x="223920" y="1941480"/>
          <a:ext cx="2879640" cy="4013280"/>
        </p:xfrm>
        <a:graphic>
          <a:graphicData uri="http://schemas.openxmlformats.org/drawingml/2006/table">
            <a:tbl>
              <a:tblPr/>
              <a:tblGrid>
                <a:gridCol w="1263600"/>
                <a:gridCol w="1616040"/>
              </a:tblGrid>
              <a:tr h="627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存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利率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个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半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3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4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二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4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5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AutoShape 35"/>
          <p:cNvSpPr/>
          <p:nvPr/>
        </p:nvSpPr>
        <p:spPr>
          <a:xfrm>
            <a:off x="6389640" y="1861920"/>
            <a:ext cx="2700360" cy="1049040"/>
          </a:xfrm>
          <a:prstGeom prst="wedgeRoundRectCallout">
            <a:avLst>
              <a:gd name="adj1" fmla="val -41486"/>
              <a:gd name="adj2" fmla="val 109962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我存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元，两年后我可以取回多少钱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36"/>
          <p:cNvSpPr/>
          <p:nvPr/>
        </p:nvSpPr>
        <p:spPr>
          <a:xfrm>
            <a:off x="3284640" y="2279160"/>
            <a:ext cx="2700360" cy="575280"/>
          </a:xfrm>
          <a:prstGeom prst="wedgeRoundRectCallout">
            <a:avLst>
              <a:gd name="adj1" fmla="val 38000"/>
              <a:gd name="adj2" fmla="val 155564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楷体_GB2312"/>
              </a:rPr>
              <a:t>除了本金，还有一些利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0"/>
          <p:cNvSpPr/>
          <p:nvPr/>
        </p:nvSpPr>
        <p:spPr>
          <a:xfrm>
            <a:off x="2260080" y="277920"/>
            <a:ext cx="55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国人民银行公布的存款利率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41"/>
          <p:cNvGrpSpPr/>
          <p:nvPr/>
        </p:nvGrpSpPr>
        <p:grpSpPr>
          <a:xfrm>
            <a:off x="179280" y="115920"/>
            <a:ext cx="946080" cy="764280"/>
            <a:chOff x="179280" y="115920"/>
            <a:chExt cx="946080" cy="764280"/>
          </a:xfrm>
        </p:grpSpPr>
        <p:pic>
          <p:nvPicPr>
            <p:cNvPr id="463" name="Picture 42" descr="cw4"/>
            <p:cNvPicPr/>
            <p:nvPr/>
          </p:nvPicPr>
          <p:blipFill>
            <a:blip r:embed="rId1"/>
            <a:stretch/>
          </p:blipFill>
          <p:spPr>
            <a:xfrm>
              <a:off x="179280" y="155520"/>
              <a:ext cx="94608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43"/>
            <p:cNvSpPr/>
            <p:nvPr/>
          </p:nvSpPr>
          <p:spPr>
            <a:xfrm>
              <a:off x="461520" y="1159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Rectangle 44"/>
          <p:cNvSpPr/>
          <p:nvPr/>
        </p:nvSpPr>
        <p:spPr>
          <a:xfrm>
            <a:off x="1766880" y="6046920"/>
            <a:ext cx="5181480" cy="838080"/>
          </a:xfrm>
          <a:prstGeom prst="rect">
            <a:avLst/>
          </a:prstGeom>
          <a:solidFill>
            <a:srgbClr val="f0a22e"/>
          </a:solidFill>
          <a:ln w="1260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利息</a:t>
            </a:r>
            <a:r>
              <a:rPr b="1" lang="en-US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本金</a:t>
            </a:r>
            <a:r>
              <a:rPr b="1" lang="en-US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利率</a:t>
            </a:r>
            <a:r>
              <a:rPr b="1" lang="en-US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50920" y="1403280"/>
          <a:ext cx="2879640" cy="4013280"/>
        </p:xfrm>
        <a:graphic>
          <a:graphicData uri="http://schemas.openxmlformats.org/drawingml/2006/table">
            <a:tbl>
              <a:tblPr/>
              <a:tblGrid>
                <a:gridCol w="1263600"/>
                <a:gridCol w="1616040"/>
              </a:tblGrid>
              <a:tr h="627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存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利率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个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半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3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4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二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4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时尚中黑简体"/>
                        </a:rPr>
                        <a:t>5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7" name="Picture 68" descr="cw6"/>
          <p:cNvPicPr/>
          <p:nvPr/>
        </p:nvPicPr>
        <p:blipFill>
          <a:blip r:embed="rId2"/>
          <a:stretch/>
        </p:blipFill>
        <p:spPr>
          <a:xfrm>
            <a:off x="7413480" y="2352600"/>
            <a:ext cx="1730520" cy="193824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69"/>
          <p:cNvSpPr/>
          <p:nvPr/>
        </p:nvSpPr>
        <p:spPr>
          <a:xfrm>
            <a:off x="4481640" y="1242720"/>
            <a:ext cx="2700360" cy="1207080"/>
          </a:xfrm>
          <a:prstGeom prst="wedgeRoundRectCallout">
            <a:avLst>
              <a:gd name="adj1" fmla="val 53050"/>
              <a:gd name="adj2" fmla="val 103277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楷体_GB2312"/>
              </a:rPr>
              <a:t>你知道利息与哪些因素有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70"/>
          <p:cNvSpPr/>
          <p:nvPr/>
        </p:nvSpPr>
        <p:spPr>
          <a:xfrm>
            <a:off x="3311640" y="3934800"/>
            <a:ext cx="4329000" cy="561600"/>
          </a:xfrm>
          <a:prstGeom prst="wedgeRoundRectCallout">
            <a:avLst>
              <a:gd name="adj1" fmla="val 51018"/>
              <a:gd name="adj2" fmla="val 174212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楷体_GB2312"/>
              </a:rPr>
              <a:t>国家规定，存款的利息要按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楷体_GB2312"/>
              </a:rPr>
              <a:t>5%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楷体_GB2312"/>
              </a:rPr>
              <a:t>的税率纳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1" descr="图片12"/>
          <p:cNvPicPr/>
          <p:nvPr/>
        </p:nvPicPr>
        <p:blipFill>
          <a:blip r:embed="rId3"/>
          <a:stretch/>
        </p:blipFill>
        <p:spPr>
          <a:xfrm>
            <a:off x="7877160" y="4808520"/>
            <a:ext cx="969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0"/>
          <p:cNvSpPr/>
          <p:nvPr/>
        </p:nvSpPr>
        <p:spPr>
          <a:xfrm>
            <a:off x="-108000" y="2349360"/>
            <a:ext cx="4594320" cy="2900520"/>
          </a:xfrm>
          <a:prstGeom prst="rect">
            <a:avLst/>
          </a:prstGeom>
          <a:solidFill>
            <a:srgbClr val="ff00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7" descr="cw25"/>
          <p:cNvPicPr/>
          <p:nvPr/>
        </p:nvPicPr>
        <p:blipFill>
          <a:blip r:embed="rId1"/>
          <a:stretch/>
        </p:blipFill>
        <p:spPr>
          <a:xfrm>
            <a:off x="7677000" y="34920"/>
            <a:ext cx="1405080" cy="1844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cw11"/>
          <p:cNvPicPr/>
          <p:nvPr/>
        </p:nvPicPr>
        <p:blipFill>
          <a:blip r:embed="rId2"/>
          <a:stretch/>
        </p:blipFill>
        <p:spPr>
          <a:xfrm>
            <a:off x="162000" y="393840"/>
            <a:ext cx="1825560" cy="180180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9"/>
          <p:cNvSpPr/>
          <p:nvPr/>
        </p:nvSpPr>
        <p:spPr>
          <a:xfrm>
            <a:off x="2006640" y="275040"/>
            <a:ext cx="3038400" cy="921240"/>
          </a:xfrm>
          <a:prstGeom prst="wedgeRoundRectCallout">
            <a:avLst>
              <a:gd name="adj1" fmla="val -73347"/>
              <a:gd name="adj2" fmla="val 47500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本金是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1000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利率是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4.68%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5246640" y="541800"/>
            <a:ext cx="2259000" cy="460800"/>
          </a:xfrm>
          <a:prstGeom prst="wedgeRoundRectCallout">
            <a:avLst>
              <a:gd name="adj1" fmla="val 74935"/>
              <a:gd name="adj2" fmla="val -7064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还要扣去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5%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方正卡通简体"/>
              </a:rPr>
              <a:t>的利息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1693800" y="1795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康娃娃体W5(P)"/>
                <a:ea typeface="华康娃娃体W5(P)"/>
              </a:rPr>
              <a:t>我这样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550080" y="263196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0×4.68%×2=93.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477000" y="321300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3.6×5%=4.6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245880" y="3726000"/>
            <a:ext cx="2749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3.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.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=1088.9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4549680" y="2349360"/>
            <a:ext cx="4594320" cy="2900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6366240" y="1776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康娃娃体W5(P)"/>
                <a:ea typeface="华康娃娃体W5(P)"/>
              </a:rPr>
              <a:t>我的算法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5050440" y="26128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0×4.68%×2=93.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4761000" y="3213000"/>
            <a:ext cx="3144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3.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=1088.9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2189520" y="5373720"/>
            <a:ext cx="44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答：两年后老奶奶可以取回</a:t>
            </a:r>
            <a:r>
              <a:rPr b="1" lang="en-US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1088.92</a:t>
            </a:r>
            <a:r>
              <a:rPr b="1" lang="zh-CN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4"/>
          <p:cNvGrpSpPr/>
          <p:nvPr/>
        </p:nvGrpSpPr>
        <p:grpSpPr>
          <a:xfrm>
            <a:off x="2050920" y="0"/>
            <a:ext cx="5687640" cy="3093840"/>
            <a:chOff x="2050920" y="0"/>
            <a:chExt cx="5687640" cy="3093840"/>
          </a:xfrm>
        </p:grpSpPr>
        <p:sp>
          <p:nvSpPr>
            <p:cNvPr id="486" name="AutoShape 5"/>
            <p:cNvSpPr/>
            <p:nvPr/>
          </p:nvSpPr>
          <p:spPr>
            <a:xfrm>
              <a:off x="2050920" y="0"/>
              <a:ext cx="5539320" cy="3093840"/>
            </a:xfrm>
            <a:prstGeom prst="cloudCallout">
              <a:avLst>
                <a:gd name="adj1" fmla="val 72074"/>
                <a:gd name="adj2" fmla="val -26486"/>
              </a:avLst>
            </a:prstGeom>
            <a:solidFill>
              <a:srgbClr val="f0a22e">
                <a:alpha val="81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6"/>
            <p:cNvSpPr/>
            <p:nvPr/>
          </p:nvSpPr>
          <p:spPr>
            <a:xfrm>
              <a:off x="2574000" y="515160"/>
              <a:ext cx="5164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把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元存入银行，存期３年。我可得税后利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税收按利息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收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7"/>
          <p:cNvSpPr/>
          <p:nvPr/>
        </p:nvSpPr>
        <p:spPr>
          <a:xfrm>
            <a:off x="5580000" y="2708280"/>
            <a:ext cx="316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00"/>
            </a:solidFill>
            <a:miter/>
          </a:ln>
          <a:effectLst>
            <a:outerShdw dist="107932" dir="189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银行三年期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利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4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0" y="3429000"/>
            <a:ext cx="518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1000×3×2.43%=72.9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-324000" y="4221000"/>
            <a:ext cx="5181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72.9×20%=14.58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0"/>
          <p:cNvSpPr/>
          <p:nvPr/>
        </p:nvSpPr>
        <p:spPr>
          <a:xfrm rot="1198800">
            <a:off x="4571640" y="4076640"/>
            <a:ext cx="2016000" cy="482760"/>
          </a:xfrm>
          <a:prstGeom prst="leftArrow">
            <a:avLst>
              <a:gd name="adj1" fmla="val 50000"/>
              <a:gd name="adj2" fmla="val 104361"/>
            </a:avLst>
          </a:prstGeom>
          <a:solidFill>
            <a:srgbClr val="a564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6588000" y="429264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644e"/>
                </a:solidFill>
                <a:latin typeface="Arial"/>
                <a:ea typeface="宋体"/>
              </a:rPr>
              <a:t>利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2"/>
          <p:cNvSpPr/>
          <p:nvPr/>
        </p:nvSpPr>
        <p:spPr>
          <a:xfrm rot="1198800">
            <a:off x="2987280" y="5013360"/>
            <a:ext cx="2016000" cy="482400"/>
          </a:xfrm>
          <a:prstGeom prst="leftArrow">
            <a:avLst>
              <a:gd name="adj1" fmla="val 50000"/>
              <a:gd name="adj2" fmla="val 104439"/>
            </a:avLst>
          </a:prstGeom>
          <a:solidFill>
            <a:srgbClr val="800080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4788000" y="540396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ff"/>
                </a:solidFill>
                <a:latin typeface="Arial"/>
                <a:ea typeface="宋体"/>
              </a:rPr>
              <a:t>税后利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79280" y="5805360"/>
            <a:ext cx="42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我可得税后利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5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5"/>
          <p:cNvSpPr/>
          <p:nvPr/>
        </p:nvSpPr>
        <p:spPr>
          <a:xfrm>
            <a:off x="0" y="0"/>
            <a:ext cx="3672000" cy="2330280"/>
          </a:xfrm>
          <a:prstGeom prst="irregularSeal2">
            <a:avLst/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到期后我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取回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179280" y="522936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00+14.58=1014.5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2041920" y="914400"/>
            <a:ext cx="548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爸爸妈妈给贝贝存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万元教育存款，存期为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，年利率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40%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到期一次支取，支取时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义务教育的学生身份证明，可以免征储蓄存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息所得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2596320" y="3068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贝贝到期可以拿到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1834920" y="3657600"/>
            <a:ext cx="52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00×5.40%×3=324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2388960" y="4267080"/>
            <a:ext cx="474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00+3240=2324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贝贝到期可以拿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24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7"/>
          <p:cNvSpPr txBox="1"/>
          <p:nvPr/>
        </p:nvSpPr>
        <p:spPr>
          <a:xfrm>
            <a:off x="2916360" y="189000"/>
            <a:ext cx="2485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41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684360" y="1341360"/>
            <a:ext cx="720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中国各银行给工业发放贷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63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，给商业发放贷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6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，给建筑业发放贷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，给农业发放贷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。这些钱就是我们大家平时的储蓄。据统计，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底，我国城市居民的存款总数已经突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亿，所以，把暂时不用的钱存入银行，对国家、对个人都有好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loud"/>
          <p:cNvSpPr/>
          <p:nvPr/>
        </p:nvSpPr>
        <p:spPr>
          <a:xfrm>
            <a:off x="0" y="0"/>
            <a:ext cx="1981080" cy="132732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2280" y="272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小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979640" y="260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判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0" y="1247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把钱存入银行，只对国家有好处（  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0" y="24382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存款的利息按一定的利息税纳税（   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0" y="35733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本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时间（  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0" y="4581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税后利息（  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0" y="569736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税后利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息税  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7543800" y="1219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5715000" y="3505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6156360" y="5683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38862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7262640" y="2438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2"/>
          <p:cNvSpPr txBox="1"/>
          <p:nvPr/>
        </p:nvSpPr>
        <p:spPr>
          <a:xfrm>
            <a:off x="1619280" y="0"/>
            <a:ext cx="54738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帮帮忙（给父母储蓄提建议）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395280" y="1341360"/>
            <a:ext cx="842472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假设现在你父母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元，打算存入银行两年，可以有两种储蓄办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存两年期的，年利率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6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种是先存一年期的，年利率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％，第一年到期时再把本金和税后利息取出来合在一起，再存入一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选择哪一种更合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005057"/>
          <p:cNvPicPr/>
          <p:nvPr/>
        </p:nvPicPr>
        <p:blipFill>
          <a:blip r:embed="rId3"/>
          <a:stretch/>
        </p:blipFill>
        <p:spPr>
          <a:xfrm>
            <a:off x="6810480" y="4619520"/>
            <a:ext cx="2333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324000" y="109224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：存两年期所得的税后利息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×4.6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2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）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4.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存一年期所得的税后利息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×4.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）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.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+196.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4.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）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4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.65+204.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1.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4.6&gt;401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选择存两年期更合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Rectangle 2" descr=""/>
          <p:cNvPicPr/>
          <p:nvPr/>
        </p:nvPicPr>
        <p:blipFill>
          <a:blip r:embed="rId1"/>
          <a:stretch/>
        </p:blipFill>
        <p:spPr>
          <a:xfrm>
            <a:off x="468360" y="701640"/>
            <a:ext cx="7772400" cy="1143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8319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我国现行所谓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利息税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”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实际是指</a:t>
            </a:r>
            <a:r>
              <a:rPr b="0" lang="zh-CN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个人所得税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的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利息、股息、红利所得</a:t>
            </a:r>
            <a:r>
              <a:rPr b="1" lang="zh-CN" sz="3200" spc="-1" strike="noStrike">
                <a:solidFill>
                  <a:srgbClr val="c32c03"/>
                </a:solidFill>
                <a:latin typeface="Tahoma"/>
              </a:rPr>
              <a:t>”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税目，主要指对个人在中国境内储蓄</a:t>
            </a:r>
            <a:r>
              <a:rPr b="0" lang="zh-CN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人民币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、</a:t>
            </a:r>
            <a:r>
              <a:rPr b="0" lang="zh-CN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外币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而取得的</a:t>
            </a:r>
            <a:r>
              <a:rPr b="0" lang="zh-CN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利息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所得征收的个人所得税。对储蓄存款利息所得征收、停征或减免个人所得税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(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利息税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)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对经济具有一定的调节功能。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1999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年的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《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税法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》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中规定利息税税率为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20%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2007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年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8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月税率由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20%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降至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5%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2008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年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10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月</a:t>
            </a:r>
            <a:r>
              <a:rPr b="1" lang="en-US" sz="3200" spc="-1" strike="noStrike">
                <a:solidFill>
                  <a:srgbClr val="c32c03"/>
                </a:solidFill>
                <a:latin typeface="Franklin Gothic Book"/>
              </a:rPr>
              <a:t>9</a:t>
            </a:r>
            <a:r>
              <a:rPr b="1" lang="zh-CN" sz="3200" spc="-1" strike="noStrike">
                <a:solidFill>
                  <a:srgbClr val="c32c03"/>
                </a:solidFill>
                <a:latin typeface="Franklin Gothic Book"/>
              </a:rPr>
              <a:t>日起暂免征收利息税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WordArt 4"/>
          <p:cNvSpPr txBox="1"/>
          <p:nvPr/>
        </p:nvSpPr>
        <p:spPr>
          <a:xfrm>
            <a:off x="3276720" y="189000"/>
            <a:ext cx="266544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你知道吗？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如果你购买的是国库卷和建设债券不仅仅可以用来支持国家的发展，而且不要纳税，希望同学们今后多支持国家的建设和发展。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WordArt 3"/>
          <p:cNvSpPr txBox="1"/>
          <p:nvPr/>
        </p:nvSpPr>
        <p:spPr>
          <a:xfrm>
            <a:off x="3132000" y="18900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你知道吗？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2700360" y="0"/>
            <a:ext cx="2736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小结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468360" y="25336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利息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=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本金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×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利率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×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时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468360" y="347040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税后利息＝利息－利息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税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468360" y="4549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税后利息＝利息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－税率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468360" y="155736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本金   利息   利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971640" y="1341360"/>
            <a:ext cx="68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人们常常把暂时不用的钱存入银行存储起来，存储不仅可以支援国家建设，也使得个人钱财更安全和有计划，还可以增加一些收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6"/>
          <p:cNvSpPr/>
          <p:nvPr/>
        </p:nvSpPr>
        <p:spPr>
          <a:xfrm>
            <a:off x="2484360" y="-7776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准备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2452320" y="1557360"/>
            <a:ext cx="38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用自己的话来说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存款方式有哪几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本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利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利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0e0e14"/>
                </a:solidFill>
                <a:latin typeface="楷体_GB2312"/>
                <a:ea typeface="楷体_GB2312"/>
              </a:rPr>
              <a:t>什么叫利息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6"/>
          <p:cNvSpPr/>
          <p:nvPr/>
        </p:nvSpPr>
        <p:spPr>
          <a:xfrm>
            <a:off x="954360" y="2389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彩云"/>
              </a:rPr>
              <a:t>存款方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059280" y="1989000"/>
            <a:ext cx="287280" cy="19130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9680 h 1913040"/>
              <a:gd name="textAreaBottom" fmla="*/ 1863360 h 191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WordArt 8"/>
          <p:cNvSpPr txBox="1"/>
          <p:nvPr/>
        </p:nvSpPr>
        <p:spPr>
          <a:xfrm>
            <a:off x="3562200" y="1628640"/>
            <a:ext cx="15145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33"/>
                </a:solidFill>
                <a:latin typeface="宋体"/>
              </a:rPr>
              <a:t>活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  <p:sp>
        <p:nvSpPr>
          <p:cNvPr id="391" name="WordArt 9"/>
          <p:cNvSpPr txBox="1"/>
          <p:nvPr/>
        </p:nvSpPr>
        <p:spPr>
          <a:xfrm>
            <a:off x="3564000" y="350208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33"/>
                </a:solidFill>
                <a:latin typeface="宋体"/>
              </a:rPr>
              <a:t>定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  <p:sp>
        <p:nvSpPr>
          <p:cNvPr id="392" name="WordArt 10"/>
          <p:cNvSpPr txBox="1"/>
          <p:nvPr/>
        </p:nvSpPr>
        <p:spPr>
          <a:xfrm>
            <a:off x="5581800" y="3068640"/>
            <a:ext cx="23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33"/>
                </a:solidFill>
                <a:latin typeface="宋体"/>
              </a:rPr>
              <a:t>零存整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5364000" y="3429000"/>
            <a:ext cx="144720" cy="1008000"/>
          </a:xfrm>
          <a:custGeom>
            <a:avLst/>
            <a:gdLst>
              <a:gd name="textAreaLeft" fmla="*/ 92520 w 144720"/>
              <a:gd name="textAreaRight" fmla="*/ 145080 w 144720"/>
              <a:gd name="textAreaTop" fmla="*/ 25920 h 1008000"/>
              <a:gd name="textAreaBottom" fmla="*/ 9820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WordArt 12"/>
          <p:cNvSpPr txBox="1"/>
          <p:nvPr/>
        </p:nvSpPr>
        <p:spPr>
          <a:xfrm>
            <a:off x="5654520" y="4005360"/>
            <a:ext cx="230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33"/>
                </a:solidFill>
                <a:latin typeface="宋体"/>
              </a:rPr>
              <a:t>整存整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484360" y="-7776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准备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503280" y="1197000"/>
            <a:ext cx="864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率是由银行规定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有按年规定的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，叫年利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有按月规定的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，叫月利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利率可根据存款时间的长短，和存款的方式不同而不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2484360" y="-7776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准备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1809000" y="12636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存入银行的钱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本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971640" y="2128680"/>
            <a:ext cx="95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取款时银行多支付的钱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利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971640" y="3063960"/>
            <a:ext cx="91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利息与本金的比值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利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1643040" y="392904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利息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2629080" y="39290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本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利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1643040" y="392904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利息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2629080" y="39290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本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利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4"/>
          <p:cNvSpPr/>
          <p:nvPr/>
        </p:nvSpPr>
        <p:spPr>
          <a:xfrm>
            <a:off x="2484360" y="-7776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准备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6"/>
          <p:cNvSpPr txBox="1"/>
          <p:nvPr/>
        </p:nvSpPr>
        <p:spPr>
          <a:xfrm>
            <a:off x="3132000" y="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考一考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407" name="Picture 9" descr="gghb001"/>
          <p:cNvPicPr/>
          <p:nvPr/>
        </p:nvPicPr>
        <p:blipFill>
          <a:blip r:embed="rId1"/>
          <a:stretch/>
        </p:blipFill>
        <p:spPr>
          <a:xfrm>
            <a:off x="4789440" y="3168720"/>
            <a:ext cx="2735280" cy="1347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0"/>
          <p:cNvSpPr/>
          <p:nvPr/>
        </p:nvSpPr>
        <p:spPr>
          <a:xfrm>
            <a:off x="3121560" y="459576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存入银行的钱叫做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仿宋_GB2312"/>
              </a:rPr>
              <a:t>本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324000" y="915840"/>
            <a:ext cx="84978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小强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0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日把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钱存入银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整存整取一年。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日，小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仅可以取回存入的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，还可以得到银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多付给的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.8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，共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1.8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555480" y="4576680"/>
            <a:ext cx="122112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493560" y="5380200"/>
            <a:ext cx="134316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1.8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3369960" y="5380200"/>
            <a:ext cx="39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取款时银行多付的钱叫做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仿宋_GB2312"/>
              </a:rPr>
              <a:t>利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5" descr=""/>
          <p:cNvPicPr/>
          <p:nvPr/>
        </p:nvPicPr>
        <p:blipFill>
          <a:blip r:embed="rId2"/>
          <a:stretch/>
        </p:blipFill>
        <p:spPr>
          <a:xfrm>
            <a:off x="2843280" y="3267000"/>
            <a:ext cx="1944720" cy="962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6" descr="tgjh"/>
          <p:cNvPicPr/>
          <p:nvPr/>
        </p:nvPicPr>
        <p:blipFill>
          <a:blip r:embed="rId3"/>
          <a:stretch/>
        </p:blipFill>
        <p:spPr>
          <a:xfrm>
            <a:off x="2722680" y="3652920"/>
            <a:ext cx="769680" cy="8571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7" descr="club29 拷贝"/>
          <p:cNvPicPr/>
          <p:nvPr/>
        </p:nvPicPr>
        <p:blipFill>
          <a:blip r:embed="rId4"/>
          <a:stretch/>
        </p:blipFill>
        <p:spPr>
          <a:xfrm>
            <a:off x="2268360" y="3652920"/>
            <a:ext cx="1835280" cy="1111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8" descr="club29 拷贝"/>
          <p:cNvPicPr/>
          <p:nvPr/>
        </p:nvPicPr>
        <p:blipFill>
          <a:blip r:embed="rId5"/>
          <a:stretch/>
        </p:blipFill>
        <p:spPr>
          <a:xfrm>
            <a:off x="2700360" y="3652920"/>
            <a:ext cx="1835280" cy="1111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9" descr="club29 拷贝"/>
          <p:cNvPicPr/>
          <p:nvPr/>
        </p:nvPicPr>
        <p:blipFill>
          <a:blip r:embed="rId6"/>
          <a:stretch/>
        </p:blipFill>
        <p:spPr>
          <a:xfrm>
            <a:off x="3097080" y="3652920"/>
            <a:ext cx="1835280" cy="11113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20"/>
          <p:cNvSpPr/>
          <p:nvPr/>
        </p:nvSpPr>
        <p:spPr>
          <a:xfrm>
            <a:off x="3277800" y="6100920"/>
            <a:ext cx="36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利息与本金的比值叫做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仿宋_GB2312"/>
              </a:rPr>
              <a:t>利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133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134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813 -0.525 L 0.02691 0.02199 E">
                                      <p:cBhvr>
                                        <p:cTn id="151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04 -0.43148 L 0.02622 -0.00208 E">
                                      <p:cBhvr>
                                        <p:cTn id="17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123456"/>
          <p:cNvPicPr/>
          <p:nvPr/>
        </p:nvPicPr>
        <p:blipFill>
          <a:blip r:embed="rId1"/>
          <a:stretch/>
        </p:blipFill>
        <p:spPr>
          <a:xfrm>
            <a:off x="250920" y="1197000"/>
            <a:ext cx="8748720" cy="4548240"/>
          </a:xfrm>
          <a:prstGeom prst="rect">
            <a:avLst/>
          </a:prstGeom>
          <a:ln w="0">
            <a:noFill/>
          </a:ln>
        </p:spPr>
      </p:pic>
      <p:sp>
        <p:nvSpPr>
          <p:cNvPr id="420" name="WordArt 6"/>
          <p:cNvSpPr txBox="1"/>
          <p:nvPr/>
        </p:nvSpPr>
        <p:spPr>
          <a:xfrm>
            <a:off x="2771640" y="0"/>
            <a:ext cx="32403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认一认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79280" y="1484280"/>
          <a:ext cx="8713800" cy="2179800"/>
        </p:xfrm>
        <a:graphic>
          <a:graphicData uri="http://schemas.openxmlformats.org/drawingml/2006/table">
            <a:tbl>
              <a:tblPr/>
              <a:tblGrid>
                <a:gridCol w="1106640"/>
                <a:gridCol w="1508040"/>
                <a:gridCol w="541440"/>
                <a:gridCol w="909360"/>
                <a:gridCol w="1235160"/>
                <a:gridCol w="1233360"/>
                <a:gridCol w="1090800"/>
                <a:gridCol w="1089000"/>
              </a:tblGrid>
              <a:tr h="170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存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金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小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支取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存标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</a:tr>
              <a:tr h="102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3/06/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00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3/06/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4/06/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凭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凭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自动   转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6c0"/>
                    </a:solidFill>
                  </a:tcPr>
                </a:tc>
              </a:tr>
            </a:tbl>
          </a:graphicData>
        </a:graphic>
      </p:graphicFrame>
      <p:sp>
        <p:nvSpPr>
          <p:cNvPr id="422" name="Rectangle 36"/>
          <p:cNvSpPr/>
          <p:nvPr/>
        </p:nvSpPr>
        <p:spPr>
          <a:xfrm>
            <a:off x="1497600" y="37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本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7"/>
          <p:cNvSpPr/>
          <p:nvPr/>
        </p:nvSpPr>
        <p:spPr>
          <a:xfrm>
            <a:off x="3442320" y="3714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利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1835280" y="3645000"/>
            <a:ext cx="144360" cy="210960"/>
          </a:xfrm>
          <a:prstGeom prst="upArrow">
            <a:avLst>
              <a:gd name="adj1" fmla="val 50000"/>
              <a:gd name="adj2" fmla="val 3652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9"/>
          <p:cNvSpPr/>
          <p:nvPr/>
        </p:nvSpPr>
        <p:spPr>
          <a:xfrm>
            <a:off x="3708360" y="3645000"/>
            <a:ext cx="142920" cy="215640"/>
          </a:xfrm>
          <a:prstGeom prst="upArrow">
            <a:avLst>
              <a:gd name="adj1" fmla="val 50000"/>
              <a:gd name="adj2" fmla="val 37706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0"/>
          <p:cNvSpPr/>
          <p:nvPr/>
        </p:nvSpPr>
        <p:spPr>
          <a:xfrm>
            <a:off x="468360" y="538560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国家规定，存款的利息要按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税率纳税。个人实际得到银行多付的钱叫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税后利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1"/>
          <p:cNvSpPr/>
          <p:nvPr/>
        </p:nvSpPr>
        <p:spPr>
          <a:xfrm>
            <a:off x="2307240" y="4457880"/>
            <a:ext cx="438660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利息＝本金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华文新魏"/>
              </a:rPr>
              <a:t>×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利率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华文新魏"/>
              </a:rPr>
              <a:t>×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0:00:16Z</dcterms:created>
  <dc:creator>china</dc:creator>
  <dc:description/>
  <dc:language>en-US</dc:language>
  <cp:lastModifiedBy>Administrator</cp:lastModifiedBy>
  <dcterms:modified xsi:type="dcterms:W3CDTF">2016-12-27T03:44:3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